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4572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39BC-382D-40DA-9E18-1F9C94428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6172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2642760"/>
            <a:ext cx="6172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FA74-8D84-4B51-AF46-B8B343DA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106632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264276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264276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EC1E-2F13-46D3-B2E7-576BFA70B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1987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1066320"/>
            <a:ext cx="1987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1066320"/>
            <a:ext cx="1987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2642760"/>
            <a:ext cx="1987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2642760"/>
            <a:ext cx="1987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2642760"/>
            <a:ext cx="1987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8A5E-C316-480D-9742-5DE1E9B2C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1066320"/>
            <a:ext cx="617220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8761-A5C0-43F1-AE99-5C8BEAE3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6172200" cy="301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86B8-0A2B-42EB-940F-F7ACCB86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3011760" cy="301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1066320"/>
            <a:ext cx="3011760" cy="301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A068-E224-4C00-9DFA-2F666E33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C0C1-9EEB-46BC-AD53-33D12D68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182160"/>
            <a:ext cx="6172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82BE-11F2-4429-BFF0-6453E653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1066320"/>
            <a:ext cx="3011760" cy="301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264276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D232-1808-42C9-9BDD-FCDBE79E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3011760" cy="301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106632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264276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8714-886B-43FE-B80A-9EEA9047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106632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2642760"/>
            <a:ext cx="6172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C417-A078-4AE3-BC06-727CB899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1066320"/>
            <a:ext cx="6172200" cy="301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marL="244440" indent="-244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30280" indent="-203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16120" indent="-1620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41560" indent="-1620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468440" indent="-1620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468440" indent="-1620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468440" indent="-1620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4236840"/>
            <a:ext cx="1600200" cy="2444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lstStyle>
            <a:lvl1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4236840"/>
            <a:ext cx="2171520" cy="2444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4236840"/>
            <a:ext cx="1600200" cy="2444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lstStyle>
            <a:lvl1pPr indent="0" algn="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fld id="{7FA796DA-D4F7-4C90-94B8-8EA75BC182C0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rcRect l="10940" t="29728" r="17531" b="31636"/>
          <a:stretch/>
        </p:blipFill>
        <p:spPr>
          <a:xfrm>
            <a:off x="380880" y="228600"/>
            <a:ext cx="57229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01:54:45Z</dcterms:created>
  <dc:creator>Gary J. Ferland</dc:creator>
  <dc:description/>
  <dc:language>en-US</dc:language>
  <cp:lastModifiedBy>Gary J. Ferland</cp:lastModifiedBy>
  <dcterms:modified xsi:type="dcterms:W3CDTF">2009-01-10T02:09:33Z</dcterms:modified>
  <cp:revision>1</cp:revision>
  <dc:subject/>
  <dc:title>Slide 1</dc:title>
</cp:coreProperties>
</file>