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457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BD23-E70E-4200-9B46-AAF19407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6172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2642760"/>
            <a:ext cx="6172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79DF-B84C-48F8-9431-E9640064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92A-0BE6-4105-8D5C-8764A893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106632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106632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264276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264276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264276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987-C822-455F-863E-A1A6610F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1066320"/>
            <a:ext cx="617220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E6E-6EAB-4133-8C8D-8205A2F7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617220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BABA-CA6F-491D-AB4B-17498E24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2B56-8CA2-4819-BCB3-8B530FF8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C201-37E4-4616-B186-28D3943C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182160"/>
            <a:ext cx="6172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7883-B3E4-400F-B0F2-7656F9A5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0A7-3039-4B43-A138-F89FEF66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64A7-3EFC-44A1-9FDE-2065D625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2642760"/>
            <a:ext cx="6172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3E7E-9497-4724-A64B-DCAB9FFB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066320"/>
            <a:ext cx="617220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marL="244440" indent="-244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30280" indent="-203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16120" indent="-1620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41560" indent="-1620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468440" indent="-1620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468440" indent="-1620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468440" indent="-1620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4236840"/>
            <a:ext cx="1600200" cy="244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lstStyle>
            <a:lvl1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4236840"/>
            <a:ext cx="2171520" cy="244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4236840"/>
            <a:ext cx="1600200" cy="244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lstStyle>
            <a:lvl1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2F50EE2F-CA48-4906-84C9-3E09E647CB55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rcRect l="10940" t="29728" r="17531" b="31636"/>
          <a:stretch/>
        </p:blipFill>
        <p:spPr>
          <a:xfrm>
            <a:off x="380880" y="228600"/>
            <a:ext cx="57229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01:54:45Z</dcterms:created>
  <dc:creator>Gary J. Ferland</dc:creator>
  <dc:description/>
  <dc:language>en-US</dc:language>
  <cp:lastModifiedBy>Gary J. Ferland</cp:lastModifiedBy>
  <dcterms:modified xsi:type="dcterms:W3CDTF">2009-01-10T02:09:33Z</dcterms:modified>
  <cp:revision>1</cp:revision>
  <dc:subject/>
  <dc:title>Slide 1</dc:title>
</cp:coreProperties>
</file>